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D7D-42C0-4E76-B6C0-220077AA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BC6-33F8-4F7D-A24C-72B41436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18A-4716-48D7-88B5-1A828FFA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F86-C047-469E-BC81-663094C0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218-B1F5-493D-8416-87A09518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435-5458-436C-905E-0F702DF3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B4B-9105-4191-84AF-A620979C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11B-CE39-4560-9FE1-A9AB686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46D-14F3-4678-B875-1D42359A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751-D932-417E-B7FD-BABF9C4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CA5-80F2-4DB6-89CB-0D0A841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DA8-9CE6-4471-8705-98FB78F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4998-3E4B-4632-A254-EA5170CA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 and calc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numbers –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-point real in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ource code and output page 38-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s area of a rectangl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(integers) for length, width,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 is in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eate window with single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void actionPerformed (actionEvent even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executed each time the button is 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instructions all within braces in a method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area, length,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: double personHeight = 1.6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examMark = 6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ons and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ignment operator “=“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= length * wid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= express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 variable on left  =  value of expression on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4776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4114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1916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81916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943240" y="4114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arithmetic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  di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mod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sub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% (modulo)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12 %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/12 answer 3 however modulo operations keep only the integer remainder, zero in this case.  i set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13 % 4 the remainder is one. “i” set to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ining Strings using the “+” operator (concaten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rstName = “Mike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lastName, whol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greet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Name = “Parr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Name = firstName + las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 = “Hi from” + whol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 Hi from Mike P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ting between Strings to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GUI classes work with Strings of characters. We need to convert them to numbers to do calculations then later convert the numbers to Strings for output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classes Integer, D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1, s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 =num 4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d = 1.23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 = Integer.toString(nu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 = Double.toString(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; double d;   String s1 = “1234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2 = “1.23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Integer.parseInt(s1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= Double.parseInt(s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ptionPane.showMessageDialog(null, “ area is:”  + are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automatically converted to a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 = 33; JOptionPane.showMessageDialog(null,     “ n  is:”  + Integer.toString (n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MessageDia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s a String as a parameter – will not compile if passed in integer. Will center output on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loating-point generally known as r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ptionP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s an input di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rstName, last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Name = JOptionPane.showInputDialog(“Enter your first name”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Name = JOptionPane.showInputDialog(“Enter your last name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OK” button and the String will be returned to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AreaDia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ting “\n” is the newline escape sequence (drop one line – move cursor to the left) may be used to break up a long lin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ting between types in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double to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to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cause loss of precision (decimal places accur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 i = 33; double d1 = 3.9; d1= i;//set to 3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1= (double)  i; // set to 3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(int) d1; // set to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xed value (constant) – can not be changed except by rewriting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ouble milesPerKm = 0.621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miles, km = 4.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s = km * milesPerK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helps minimize errors be eliminating repetitive need to re-ke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ons (calculat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example int x = 100, y = 20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.drawLine (100, 100, 110, 1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.drawLine ( x * 2, y -8, x * 30 -1, y * 3 + 6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s of a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xels on a screen (CRT) or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– double si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Height in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of an atom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of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 doubt as to which type to use ask for clarification as to what type will be needed/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capa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+ -  about 2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+ - 1.79 x 10 to the 30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3 about 2.333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2.33333333333333333 not exact but cl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bigValue = 12.3E+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or e may be used or 10 to the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art (A-Z or a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s or underscores may start a variabl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contain letters or digits (0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ny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s case 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convention (followed in the tex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start with a lower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mbedded spaces allowed in variable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start with Uppercase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words such as Example may be uppercase as they clarify the variable name ALargeClassIn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rved names (Keywor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, new,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ppendix “F” for a ful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56:35Z</dcterms:created>
  <dc:creator>ITS</dc:creator>
  <dc:description/>
  <dc:language>en-US</dc:language>
  <cp:lastModifiedBy> </cp:lastModifiedBy>
  <dcterms:modified xsi:type="dcterms:W3CDTF">2005-04-27T00:25:20Z</dcterms:modified>
  <cp:revision>5</cp:revision>
  <dc:subject/>
  <dc:title>Variable and calculations Chapter 4</dc:title>
</cp:coreProperties>
</file>